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45C8-E202-49E0-B076-8DCCD7601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0B2E-44D4-4100-A5FE-A5E133FA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AE00-7A01-4F06-91A2-EA724B45A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B47-DE76-4B90-A73C-4B80D2154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8EB1B-1751-4C66-9523-C5D49739A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DE2B0-CC66-49D1-8136-746524E40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6385-1E42-4C36-AA74-EC557329B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06A98-8A09-41A5-B995-8A3F6F42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EFE6-0CE7-4E67-A940-A62990E65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6AC24-67F2-405E-80BA-B77008DCE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96E82-1C5E-4531-A8F0-BA3B2F67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56AE-3465-4A5F-8CAD-0C91D2852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6DA8A-1F81-4E15-8C44-9873A9A91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0355-E06A-4348-B6C3-9E9757E1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102B2-C862-48A0-9F81-10136B99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D2499-988F-4409-A39E-9C4BA88F2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6844-E87A-4622-9114-ED6D8045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69C2-5852-492C-92D8-2D38DC17A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DAE2-707B-48C7-B566-C7D719456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F040-FAD2-4D6F-BD46-A90EE1A3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83DE-BEB0-4956-9BE9-161273BEA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6F9-8614-4F93-8F73-DF135ABB4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3739-4DD8-4482-8A75-BE0F5A26B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94C8-7D25-4208-8221-FBE25773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A6D8-404A-421F-9956-800C3F4926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26589-5FEC-434E-8414-CDB31D5959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hinkcopyright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9640" y="1980720"/>
            <a:ext cx="8136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全国図書館大会　第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8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分科会　事例発表</a:t>
            </a: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3</a:t>
            </a:r>
            <a:br>
              <a:rPr sz="3600"/>
            </a:b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「青空文庫とデジタルアーカイブの文化」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9/19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　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00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～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青空文庫・翻訳家　大久保ゆう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今、デジタルアーカイヴに起こりつつあること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2.3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　今、消えゆくもの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団体・個人運営のアーカイヴの淘汰・消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消えたデジタル資料を復活させることの困難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32000" y="3141720"/>
            <a:ext cx="6407280" cy="1150200"/>
            <a:chOff x="1332000" y="3141720"/>
            <a:chExt cx="6407280" cy="1150200"/>
          </a:xfrm>
        </p:grpSpPr>
        <p:sp>
          <p:nvSpPr>
            <p:cNvPr id="125" name="_s101382"/>
            <p:cNvSpPr/>
            <p:nvPr/>
          </p:nvSpPr>
          <p:spPr>
            <a:xfrm>
              <a:off x="1332000" y="3141720"/>
              <a:ext cx="6407280" cy="1150200"/>
            </a:xfrm>
            <a:prstGeom prst="roundRect">
              <a:avLst>
                <a:gd name="adj" fmla="val 16667"/>
              </a:avLst>
            </a:prstGeom>
            <a:solidFill>
              <a:srgbClr val="cc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デジタルアーカイヴの消滅脆弱性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258920" y="4724280"/>
            <a:ext cx="6141960" cy="1792440"/>
            <a:chOff x="1258920" y="4724280"/>
            <a:chExt cx="6141960" cy="1792440"/>
          </a:xfrm>
        </p:grpSpPr>
        <p:sp>
          <p:nvSpPr>
            <p:cNvPr id="127" name=""/>
            <p:cNvSpPr/>
            <p:nvPr/>
          </p:nvSpPr>
          <p:spPr>
            <a:xfrm>
              <a:off x="1258920" y="5013360"/>
              <a:ext cx="475128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『青空文庫　全』（</a:t>
              </a: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2007</a:t>
              </a: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年）</a:t>
              </a:r>
              <a:br>
                <a:rPr sz="3200"/>
              </a:b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全国の図書館に配布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2"/>
            <a:stretch/>
          </p:blipFill>
          <p:spPr>
            <a:xfrm>
              <a:off x="6084720" y="4724280"/>
              <a:ext cx="1316160" cy="17924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今後のデジタルアーカイヴについて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3.1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　日本で遅れている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DA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分野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放送・映像の分野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音楽の分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00000" y="2276640"/>
            <a:ext cx="7993080" cy="5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パブリックドメインのラジオドラマは？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 O.T.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2852640"/>
            <a:ext cx="777564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パブリックドメインの映画は？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 P.D.Fil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00000" y="4365720"/>
            <a:ext cx="7993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パブリックドメインの楽譜は？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/ IMS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00000" y="4941720"/>
            <a:ext cx="7993080" cy="60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「歴史的音盤アーカイブ推進協議会」？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9280" y="228600"/>
            <a:ext cx="89647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今後のデジタルアーカイヴについて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3.2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　今後、必要とされるはずの</a:t>
            </a: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DA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「地域デジタルアーカイヴ」の可能性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（市民と公的機関・組織のあいだで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826920" y="2924280"/>
            <a:ext cx="3672000" cy="3268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88000" y="2924280"/>
            <a:ext cx="3384360" cy="33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今後のデジタルアーカイヴについて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3.3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　人とＤＡの豊かな関係と未来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628640"/>
            <a:ext cx="9144000" cy="4149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00000" y="5877000"/>
            <a:ext cx="7417080" cy="8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各デジタルアーカイヴの横断・相乗効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4.</a:t>
            </a:r>
            <a:r>
              <a:rPr b="0" lang="zh-CN" sz="4400" spc="-1" strike="noStrike">
                <a:solidFill>
                  <a:srgbClr val="b7e7ff"/>
                </a:solidFill>
                <a:latin typeface="Arial"/>
              </a:rPr>
              <a:t>デジタルアーカイヴの文化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デジタルの特性を生かして、自分たちの文化を積極的に共有して、さらに豊かにしていこうとする文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デジタルアーカイヴを進める上で必要なこと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32000" y="4292640"/>
            <a:ext cx="6407280" cy="1583280"/>
            <a:chOff x="1332000" y="4292640"/>
            <a:chExt cx="6407280" cy="1583280"/>
          </a:xfrm>
        </p:grpSpPr>
        <p:sp>
          <p:nvSpPr>
            <p:cNvPr id="146" name="_s105478"/>
            <p:cNvSpPr/>
            <p:nvPr/>
          </p:nvSpPr>
          <p:spPr>
            <a:xfrm>
              <a:off x="1332000" y="4292640"/>
              <a:ext cx="6407280" cy="1583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文化財を「公開」するのではなく</a:t>
              </a:r>
              <a:br>
                <a:rPr sz="3200"/>
              </a:br>
              <a:r>
                <a:rPr b="0" lang="zh-CN" sz="3200" spc="-1" strike="noStrike">
                  <a:solidFill>
                    <a:srgbClr val="ffffff"/>
                  </a:solidFill>
                  <a:latin typeface="Arial"/>
                </a:rPr>
                <a:t>「共有」するという意識を持つこと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（今回は発表では触れない）</a:t>
            </a:r>
            <a:br>
              <a:rPr sz="3200"/>
            </a:b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著作権保護期間の問題について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青空文庫の保護期間の延長反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「著作権保護期間の延長問題を考えるフォーラム」（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thinkcopyright.org/</a:t>
            </a:r>
            <a:r>
              <a:rPr b="0" lang="zh-CN" sz="3200" spc="-1" strike="noStrike" u="sng">
                <a:solidFill>
                  <a:srgbClr val="ffffff"/>
                </a:solidFill>
                <a:uFillTx/>
                <a:latin typeface="Arial"/>
              </a:rPr>
              <a:t>）</a:t>
            </a:r>
            <a:br>
              <a:rPr sz="3200"/>
            </a:b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田中辰雄・林紘一郎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編著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]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『著作権保護期間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延長は文化を保護するか？』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勁草書房、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008.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223200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 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青空文庫とデジタルアーカイヴ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1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　青空文庫について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1997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年設立の私設デジタルアーカイ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大正・昭和期の著作権切れ文学作品等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を収録、商用も含めた</a:t>
            </a:r>
            <a:br>
              <a:rPr sz="3200"/>
            </a:b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自由な利用が可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総数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7000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作品以上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ボランティアで運営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http://aozora.gr.j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667640" y="1773360"/>
            <a:ext cx="952560" cy="952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4932360" y="3068640"/>
            <a:ext cx="3672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青空文庫とデジタルアーカイヴ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2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　デジタルアーカイヴの区分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「公的機関による公的なもののアーカイヴ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24000" y="2565360"/>
            <a:ext cx="4066920" cy="37670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500720" y="2573280"/>
            <a:ext cx="421164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青空文庫とデジタルアーカイヴ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2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　デジタルアーカイヴの区分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「市民・企業による公的なもののアーカイヴ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611280" y="2421000"/>
            <a:ext cx="3556080" cy="3789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27640" y="2421000"/>
            <a:ext cx="4248000" cy="37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青空文庫とデジタルアーカイヴ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2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　デジタルアーカイヴの区分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「市民・企業による個人的なもののアーカイヴ」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39640" y="2421000"/>
            <a:ext cx="3672000" cy="3663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427640" y="2421000"/>
            <a:ext cx="424800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青空文庫とデジタルアーカイヴ</a:t>
            </a:r>
            <a:br>
              <a:rPr sz="3600"/>
            </a:br>
            <a:r>
              <a:rPr b="0" lang="en-US" sz="3600" spc="-1" strike="noStrike">
                <a:solidFill>
                  <a:srgbClr val="b7e7ff"/>
                </a:solidFill>
                <a:latin typeface="Arial"/>
              </a:rPr>
              <a:t>1.3</a:t>
            </a:r>
            <a:r>
              <a:rPr b="0" lang="zh-CN" sz="3600" spc="-1" strike="noStrike">
                <a:solidFill>
                  <a:srgbClr val="b7e7ff"/>
                </a:solidFill>
                <a:latin typeface="Arial"/>
              </a:rPr>
              <a:t>　それぞれの問題点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1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「市民・企業による公的なもの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」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作業の専門化による新規参加者の減少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マイナーな作品の発掘における作業限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「公的機関による公的なもの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」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利用が専門家に限られる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市民による広い活用にまで至れていな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「市民・企業による個人的なものの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」</a:t>
            </a:r>
            <a:br>
              <a:rPr sz="32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作品志向が強く、素材・資料的なものが蓄積されない</a:t>
            </a:r>
            <a:br>
              <a:rPr sz="2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　地域性が欠如しやす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今、デジタルアーカイヴに起こりつつあること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2.1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　アーカイヴ・共有への欲望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「メリットはない」ボランティア活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「罪に問われるおそれのある」違法アップロー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43280" y="4365720"/>
            <a:ext cx="3023280" cy="1150200"/>
            <a:chOff x="2843280" y="4365720"/>
            <a:chExt cx="3023280" cy="1150200"/>
          </a:xfrm>
        </p:grpSpPr>
        <p:sp>
          <p:nvSpPr>
            <p:cNvPr id="108" name="_s99336"/>
            <p:cNvSpPr/>
            <p:nvPr/>
          </p:nvSpPr>
          <p:spPr>
            <a:xfrm>
              <a:off x="2843280" y="4365720"/>
              <a:ext cx="3023280" cy="1150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ffffff"/>
                  </a:solidFill>
                  <a:latin typeface="Arial"/>
                </a:rPr>
                <a:t>所有欲？</a:t>
              </a:r>
              <a:endParaRPr b="0" lang="en-US" sz="3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692360" y="4365720"/>
            <a:ext cx="5399640" cy="1150200"/>
            <a:chOff x="1692360" y="4365720"/>
            <a:chExt cx="5399640" cy="1150200"/>
          </a:xfrm>
        </p:grpSpPr>
        <p:sp>
          <p:nvSpPr>
            <p:cNvPr id="110" name="_s99372"/>
            <p:cNvSpPr/>
            <p:nvPr/>
          </p:nvSpPr>
          <p:spPr>
            <a:xfrm>
              <a:off x="1692360" y="4365720"/>
              <a:ext cx="5399640" cy="1150200"/>
            </a:xfrm>
            <a:prstGeom prst="roundRect">
              <a:avLst>
                <a:gd name="adj" fmla="val 16667"/>
              </a:avLst>
            </a:prstGeom>
            <a:solidFill>
              <a:srgbClr val="ee941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Arial"/>
                </a:rPr>
                <a:t>共有欲・アーカイヴ欲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4356000" y="3213000"/>
            <a:ext cx="0" cy="720720"/>
          </a:xfrm>
          <a:prstGeom prst="line">
            <a:avLst/>
          </a:prstGeom>
          <a:ln w="38088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今、デジタルアーカイヴに起こりつつあること</a:t>
            </a:r>
            <a:br>
              <a:rPr sz="3200"/>
            </a:br>
            <a:r>
              <a:rPr b="0" lang="en-US" sz="3200" spc="-1" strike="noStrike">
                <a:solidFill>
                  <a:srgbClr val="b7e7ff"/>
                </a:solidFill>
                <a:latin typeface="Arial"/>
              </a:rPr>
              <a:t>2.2</a:t>
            </a:r>
            <a:r>
              <a:rPr b="0" lang="zh-CN" sz="3200" spc="-1" strike="noStrike">
                <a:solidFill>
                  <a:srgbClr val="b7e7ff"/>
                </a:solidFill>
                <a:latin typeface="Arial"/>
              </a:rPr>
              <a:t>　単純閲覧から創造のサイクルへ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4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《自由に使えるコンテンツ》　→　《単純閲覧》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創造のサイクル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2133720"/>
            <a:ext cx="85406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　　　　　　　　　　　　　→　《実験的ビジネス》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　　　　　　　　　　　　　　　　　→　《新しい創作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970800" y="3600360"/>
            <a:ext cx="3435120" cy="2974680"/>
            <a:chOff x="3970800" y="3600360"/>
            <a:chExt cx="3435120" cy="2974680"/>
          </a:xfrm>
        </p:grpSpPr>
        <p:sp>
          <p:nvSpPr>
            <p:cNvPr id="116" name="_s100362"/>
            <p:cNvSpPr/>
            <p:nvPr/>
          </p:nvSpPr>
          <p:spPr>
            <a:xfrm>
              <a:off x="4641120" y="3600360"/>
              <a:ext cx="2094840" cy="2094840"/>
            </a:xfrm>
            <a:custGeom>
              <a:avLst/>
              <a:gdLst>
                <a:gd name="textAreaLeft" fmla="*/ 0 w 2094840"/>
                <a:gd name="textAreaRight" fmla="*/ 2095200 w 2094840"/>
                <a:gd name="textAreaTop" fmla="*/ 0 h 2094840"/>
                <a:gd name="textAreaBottom" fmla="*/ 2095200 h 20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_s100363"/>
            <p:cNvSpPr/>
            <p:nvPr/>
          </p:nvSpPr>
          <p:spPr>
            <a:xfrm rot="7200000">
              <a:off x="4927680" y="4096800"/>
              <a:ext cx="2094480" cy="2094840"/>
            </a:xfrm>
            <a:custGeom>
              <a:avLst/>
              <a:gdLst>
                <a:gd name="textAreaLeft" fmla="*/ 0 w 2094480"/>
                <a:gd name="textAreaRight" fmla="*/ 2094840 w 2094480"/>
                <a:gd name="textAreaTop" fmla="*/ 0 h 2094840"/>
                <a:gd name="textAreaBottom" fmla="*/ 2095200 h 20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_s100365"/>
            <p:cNvSpPr/>
            <p:nvPr/>
          </p:nvSpPr>
          <p:spPr>
            <a:xfrm rot="14400000">
              <a:off x="4354200" y="4096800"/>
              <a:ext cx="2094480" cy="2094840"/>
            </a:xfrm>
            <a:custGeom>
              <a:avLst/>
              <a:gdLst>
                <a:gd name="textAreaLeft" fmla="*/ 0 w 2094480"/>
                <a:gd name="textAreaRight" fmla="*/ 2094840 w 2094480"/>
                <a:gd name="textAreaTop" fmla="*/ 0 h 2094840"/>
                <a:gd name="textAreaBottom" fmla="*/ 2095200 h 209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_s100360"/>
            <p:cNvSpPr/>
            <p:nvPr/>
          </p:nvSpPr>
          <p:spPr>
            <a:xfrm>
              <a:off x="6261840" y="3983760"/>
              <a:ext cx="84024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アーカイヴ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_s100361"/>
            <p:cNvSpPr/>
            <p:nvPr/>
          </p:nvSpPr>
          <p:spPr>
            <a:xfrm>
              <a:off x="5269680" y="5706720"/>
              <a:ext cx="84024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触れ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刺激され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_s100364"/>
            <p:cNvSpPr/>
            <p:nvPr/>
          </p:nvSpPr>
          <p:spPr>
            <a:xfrm>
              <a:off x="4273560" y="3984840"/>
              <a:ext cx="840240" cy="8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著作物を</a:t>
              </a:r>
              <a:br>
                <a:rPr sz="2400"/>
              </a:br>
              <a:r>
                <a:rPr b="0" lang="zh-CN" sz="2400" spc="-1" strike="noStrike">
                  <a:solidFill>
                    <a:srgbClr val="ffffff"/>
                  </a:solidFill>
                  <a:latin typeface="Arial"/>
                </a:rPr>
                <a:t>創造する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06:03:39Z</dcterms:created>
  <dc:creator>京都大学</dc:creator>
  <dc:description/>
  <dc:language>en-US</dc:language>
  <cp:lastModifiedBy>京都大学</cp:lastModifiedBy>
  <dcterms:modified xsi:type="dcterms:W3CDTF">2008-09-09T11:07:03Z</dcterms:modified>
  <cp:revision>7</cp:revision>
  <dc:subject/>
  <dc:title>スライド 1</dc:title>
</cp:coreProperties>
</file>